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FBC-74E6-4720-B48F-D527B5D7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615-5CE6-4063-957A-A0A996CE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91A-FA03-4A4B-9EBC-9A9D19BC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3B0-E6E4-44B8-9E6B-A6772DA7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A9C-E52F-4943-8101-36359B9F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C69-BCDE-4E08-BF80-2854704E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DB2-6942-46A7-BFF7-849E9908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F49-F6AA-4875-804D-C61B3D20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023-CDA1-4AAD-870D-E3E9C6F1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953-95A6-4BDC-900B-60EA5B91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E02-AB33-424B-8325-4921069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CD5-49BE-4287-AFC7-BC259657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E6A4-43E6-4AC5-A7C8-6D8422DB2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iraeva.rita@mail.ru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93680" y="692280"/>
            <a:ext cx="1007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pr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13a, page 10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"/>
          <p:cNvPicPr/>
          <p:nvPr/>
        </p:nvPicPr>
        <p:blipFill>
          <a:blip r:embed="rId1"/>
          <a:srcRect l="23062" t="15625" r="28598" b="61841"/>
          <a:stretch/>
        </p:blipFill>
        <p:spPr>
          <a:xfrm>
            <a:off x="1093680" y="3435480"/>
            <a:ext cx="10307880" cy="2701800"/>
          </a:xfrm>
          <a:prstGeom prst="rect">
            <a:avLst/>
          </a:prstGeom>
          <a:ln w="0">
            <a:noFill/>
          </a:ln>
        </p:spPr>
      </p:pic>
      <p:pic>
        <p:nvPicPr>
          <p:cNvPr id="43" name="Звук 11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rcRect l="29060" t="24149" r="28784" b="5399"/>
          <a:stretch/>
        </p:blipFill>
        <p:spPr>
          <a:xfrm>
            <a:off x="0" y="0"/>
            <a:ext cx="7813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8072280" y="1344600"/>
            <a:ext cx="3940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уша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исываем выделенные красным слова в тетрадь с перевод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Ex1 p106" descr=""/>
          <p:cNvPicPr/>
          <p:nvPr/>
        </p:nvPicPr>
        <p:blipFill>
          <a:blip r:embed="rId2"/>
          <a:stretch/>
        </p:blipFill>
        <p:spPr>
          <a:xfrm>
            <a:off x="4572000" y="345960"/>
            <a:ext cx="996840" cy="99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"/>
          <p:cNvPicPr/>
          <p:nvPr/>
        </p:nvPicPr>
        <p:blipFill>
          <a:blip r:embed="rId3"/>
          <a:srcRect l="47496" t="39764" r="23908" b="52697"/>
          <a:stretch/>
        </p:blipFill>
        <p:spPr>
          <a:xfrm>
            <a:off x="6012000" y="109440"/>
            <a:ext cx="6000480" cy="889200"/>
          </a:xfrm>
          <a:prstGeom prst="rect">
            <a:avLst/>
          </a:prstGeom>
          <a:ln w="0">
            <a:noFill/>
          </a:ln>
        </p:spPr>
      </p:pic>
      <p:pic>
        <p:nvPicPr>
          <p:cNvPr id="48" name="Звук 12" descr=""/>
          <p:cNvPicPr/>
          <p:nvPr/>
        </p:nvPicPr>
        <p:blipFill>
          <a:blip r:embed="rId4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506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"/>
          <p:cNvPicPr/>
          <p:nvPr/>
        </p:nvPicPr>
        <p:blipFill>
          <a:blip r:embed="rId1"/>
          <a:srcRect l="28847" t="5399" r="29013" b="8617"/>
          <a:stretch/>
        </p:blipFill>
        <p:spPr>
          <a:xfrm>
            <a:off x="3408480" y="166680"/>
            <a:ext cx="5805360" cy="6705720"/>
          </a:xfrm>
          <a:prstGeom prst="rect">
            <a:avLst/>
          </a:prstGeom>
          <a:ln w="0">
            <a:noFill/>
          </a:ln>
        </p:spPr>
      </p:pic>
      <p:pic>
        <p:nvPicPr>
          <p:cNvPr id="50" name="Ex2 p107" descr=""/>
          <p:cNvPicPr/>
          <p:nvPr/>
        </p:nvPicPr>
        <p:blipFill>
          <a:blip r:embed="rId2"/>
          <a:stretch/>
        </p:blipFill>
        <p:spPr>
          <a:xfrm>
            <a:off x="2133720" y="3110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Звук 9" descr=""/>
          <p:cNvPicPr/>
          <p:nvPr/>
        </p:nvPicPr>
        <p:blipFill>
          <a:blip r:embed="rId3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183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149480" y="1260360"/>
            <a:ext cx="9975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me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.1, p.106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но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.2, p.107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диалог не менее 5 раз и записать себя. Аудиозапись выслать на почту </a:t>
            </a:r>
            <a:r>
              <a:rPr b="0" lang="en-US" sz="4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siraeva.rita@mail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bye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Звук 5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7:01:43Z</dcterms:created>
  <dc:creator>Маргарита</dc:creator>
  <dc:description/>
  <dc:language>en-US</dc:language>
  <cp:lastModifiedBy>Татьяна</cp:lastModifiedBy>
  <dcterms:modified xsi:type="dcterms:W3CDTF">2020-04-05T11:01:56Z</dcterms:modified>
  <cp:revision>8</cp:revision>
  <dc:subject/>
  <dc:title>Презентация PowerPoint</dc:title>
</cp:coreProperties>
</file>